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726-7897-475B-96EC-8BD4663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EEC-AAF5-423F-9892-60DB4E08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877-E643-48F9-958E-FC4933DE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509-40A7-4E01-BD21-1E338C81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1F3-D6C3-4CB5-BA6C-03BDE6FA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D2F-1F26-4E1A-A9D0-27E8D55B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7B5-E487-4412-8E66-69F14981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B3F-3F1B-4A9C-A83F-0730FAE1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DAC-D982-459A-AE87-782FB7FC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B01-A6C7-48BB-9E86-4DE968A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F33-72A4-4FC8-A36A-911D2FD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4A7-1BA7-483E-BCBD-B8A7314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E0FC6-F22C-4B47-9EF7-C5E0BB8DE1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imgres?imgurl=http://i109.photobucket.com/albums/n51/JaromeIginla12/other/russian_flag_12226.gif&amp;imgrefurl=http://media.photobucket.com/image/russian%2520flag/JaromeIginla12/other/russian_flag_12226.gif%3Fo%3D218&amp;h=283&amp;w=427&amp;sz=3&amp;tbnid=bvU-hVj48RD4mM:&amp;tbnh=84&amp;tbnw=126&amp;prev=/images%3Fq%3Drussian%2Bflag&amp;zoom=1&amp;q=russian+flag&amp;hl=en&amp;usg=__YeAS9j5f8HG_F6s9gHCH0SNVMOc=&amp;sa=X&amp;ei=11IRTdSbN4Ss8AbP4eTPDQ&amp;sqi=2&amp;ved=0CDoQ9QEwBA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1165860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4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Jake Latini, Luke Marcheski and Isabelle Pillone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soon became the Union of Soviet Scolastic Republic 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-1922: 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4: Lenin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39: September: WW II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-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469440" cy="7304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45-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-May: Berlin surrenders to the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: The USA bombed Hiroshima and Nagaski which ended W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War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3-Stalin dies and is taken over by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-The Soviet Union launches “Sputni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ace Race”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-531720" y="0"/>
            <a:ext cx="1264752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962-1980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2-The Cuban Missile Cri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4-Khrushchev was replaced by Leonid Brezhnev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5-The Soviet Union backs North Vietnam against the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75- “The Space Race” is won by the USA by being the only nation to put a man on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80-The USSR loses to the US in the hockey Olympics 4 to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-54000" y="-7920"/>
            <a:ext cx="9198000" cy="7323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USSR launches the MIR spa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USSR withdraws from Afghanistan     the Berlin wall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http://t2.gstatic.com/images?q=tbn:bvU-hVj48RD4mM:http://i109.photobucket.com/albums/n51/JaromeIginla12/other/russian_flag_12226.gif&amp;t=1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-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-Boris Yelstin i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Russia becomes an independen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Yelsti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>
            <a:hlinkClick r:id="rId2"/>
          </p:cNvPr>
          <p:cNvSpPr/>
          <p:nvPr/>
        </p:nvSpPr>
        <p:spPr>
          <a:xfrm>
            <a:off x="155520" y="-351000"/>
            <a:ext cx="1114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155520" y="-351000"/>
            <a:ext cx="1114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-39600"/>
            <a:ext cx="11646000" cy="6897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Problems Wit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Russia has gone trough a lot of wars. Wars cost a lot of money. Loss of money causes economic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Spent millions of dollars on “The Space Race” and Sput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Have had a lot of competition and c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platform51.org/images/ecards/thanks/thanksmultiling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French Scrip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Wingdings"/>
                <a:ea typeface="Wingdings"/>
              </a:rPr>
              <a:t>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Wingdings"/>
                <a:ea typeface="Wingdings"/>
              </a:rPr>
              <a:t>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Pillone Family</dc:creator>
  <dc:description/>
  <dc:language>en-US</dc:language>
  <cp:lastModifiedBy>Jean Philipe</cp:lastModifiedBy>
  <dcterms:modified xsi:type="dcterms:W3CDTF">2010-12-22T01:30:35Z</dcterms:modified>
  <cp:revision>6</cp:revision>
  <dc:subject/>
  <dc:title>Russian History 1918-2000</dc:title>
</cp:coreProperties>
</file>